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C60-7A76-45EB-A0B4-C4FB1372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729-F099-49AC-9608-E334D1B8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0AC-6775-4FC0-B295-F05A7888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358-A661-4ED1-BD11-6501D965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448-F0B3-452A-ACC5-BB201238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D3F-81F3-4C2D-9F81-6B607688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4E5-C921-4822-920D-9B8A32CC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E5E-5234-4359-8EB7-DBDFCED0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35C-19A6-4F76-82D1-C830625B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482-F48F-43C4-B0E1-DCBA0495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49F-47B2-4930-8B42-15F6AFA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39F-708C-4A3F-A0A6-BBEC6C3B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811-1BA5-41CB-8FD5-6569E19F5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-189000" y="-480960"/>
            <a:ext cx="1914480" cy="5491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09680" y="457200"/>
            <a:ext cx="6248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Defini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Illegally accessing or without authorization computers, accounts, equipment or networks, or attempting to crack the security measures of anothe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051youngr\Local Settings\Temporary Internet Files\Content.IE5\04L3D2FT\MCj04042610000[1].wmf"/>
          <p:cNvPicPr/>
          <p:nvPr/>
        </p:nvPicPr>
        <p:blipFill>
          <a:blip r:embed="rId2"/>
          <a:stretch/>
        </p:blipFill>
        <p:spPr>
          <a:xfrm>
            <a:off x="228600" y="4724280"/>
            <a:ext cx="1838160" cy="1797120"/>
          </a:xfrm>
          <a:prstGeom prst="rect">
            <a:avLst/>
          </a:prstGeom>
          <a:ln w="0">
            <a:noFill/>
          </a:ln>
        </p:spPr>
      </p:pic>
      <p:sp>
        <p:nvSpPr>
          <p:cNvPr id="44" name="Hexagon 7"/>
          <p:cNvSpPr/>
          <p:nvPr/>
        </p:nvSpPr>
        <p:spPr>
          <a:xfrm>
            <a:off x="3352680" y="3505320"/>
            <a:ext cx="4800600" cy="26668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h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ack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o the computer, he lost all of his privileges for the rest of the school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7:04:50Z</dcterms:created>
  <dc:creator>Administrator</dc:creator>
  <dc:description/>
  <dc:language>en-US</dc:language>
  <cp:lastModifiedBy>Administrator</cp:lastModifiedBy>
  <dcterms:modified xsi:type="dcterms:W3CDTF">2009-03-13T17:14:50Z</dcterms:modified>
  <cp:revision>1</cp:revision>
  <dc:subject/>
  <dc:title>Slide 1</dc:title>
</cp:coreProperties>
</file>